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133-E968-4D5D-A26A-06B32327B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A7C6-CCA5-4DA7-88C7-082455F7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CA7-2124-4433-9E7A-193AD653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D92-A97B-4409-B86A-9D8A6A8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266-EF36-4E1D-B8E0-CDC3D329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443-E514-4BD0-A929-15BECD99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643-71B5-4368-8CE3-99DACC2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760-C438-4E97-9BD5-C76BB9C4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3F4-F4DB-46FF-93B0-2476A8D0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7F7-3CD0-40C0-815A-2E0823A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C74-1FD5-4819-A2F6-7F0D591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AE9-C7CD-4F48-9439-9C3CB85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A35-9815-4490-A444-C394DBF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D1B-591F-481C-A758-7D3D6EA1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8019-142B-4CE1-A465-AE067DE0D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atelynn Dudl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971800" y="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ek city-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imagesCA3YK6GP.jpg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362320" y="609480"/>
            <a:ext cx="5181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hilosophy</a:t>
            </a:r>
            <a:br>
              <a:rPr sz="6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y of wisdom and the right way to l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imagesCALPMUA0.jpg"/>
          <p:cNvPicPr/>
          <p:nvPr/>
        </p:nvPicPr>
        <p:blipFill>
          <a:blip r:embed="rId1"/>
          <a:stretch/>
        </p:blipFill>
        <p:spPr>
          <a:xfrm>
            <a:off x="228600" y="3200400"/>
            <a:ext cx="860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762120" y="0"/>
            <a:ext cx="5562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ea of land nearly surrounded by water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imagesCA28FNEP.jpg"/>
          <p:cNvPicPr/>
          <p:nvPr/>
        </p:nvPicPr>
        <p:blipFill>
          <a:blip r:embed="rId1"/>
          <a:srcRect l="0" t="0" r="90" b="7955"/>
          <a:stretch/>
        </p:blipFill>
        <p:spPr>
          <a:xfrm>
            <a:off x="1676520" y="2743200"/>
            <a:ext cx="5715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609480" y="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imagesCA2JQPL4.jpg"/>
          <p:cNvPicPr/>
          <p:nvPr/>
        </p:nvPicPr>
        <p:blipFill>
          <a:blip r:embed="rId1"/>
          <a:stretch/>
        </p:blipFill>
        <p:spPr>
          <a:xfrm>
            <a:off x="1828800" y="2209680"/>
            <a:ext cx="58579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685800" y="533520"/>
            <a:ext cx="76201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magesCAZ2W6EJ.jpg"/>
          <p:cNvPicPr/>
          <p:nvPr/>
        </p:nvPicPr>
        <p:blipFill>
          <a:blip r:embed="rId1"/>
          <a:stretch/>
        </p:blipFill>
        <p:spPr>
          <a:xfrm>
            <a:off x="2286000" y="2743200"/>
            <a:ext cx="4724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magesCALPMUA0.jpg"/>
          <p:cNvPicPr/>
          <p:nvPr/>
        </p:nvPicPr>
        <p:blipFill>
          <a:blip r:embed="rId1"/>
          <a:stretch/>
        </p:blipFill>
        <p:spPr>
          <a:xfrm>
            <a:off x="2139840" y="2475000"/>
            <a:ext cx="613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agesCA7N6XPI.jpg"/>
          <p:cNvPicPr/>
          <p:nvPr/>
        </p:nvPicPr>
        <p:blipFill>
          <a:blip r:embed="rId1"/>
          <a:srcRect l="0" t="0" r="0" b="7690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81952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mb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 vote on issues that helped their c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untitled.bmp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666880" y="6094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81080" y="1371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has ascertain rights and  responsibilities to his or her 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agesCAHEN0ES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 rot="19716000">
            <a:off x="52920" y="46548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magesCAD993LP.jpg"/>
          <p:cNvPicPr/>
          <p:nvPr/>
        </p:nvPicPr>
        <p:blipFill>
          <a:blip r:embed="rId1"/>
          <a:stretch/>
        </p:blipFill>
        <p:spPr>
          <a:xfrm rot="306000">
            <a:off x="630000" y="2905200"/>
            <a:ext cx="2743200" cy="3531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819520" y="990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pe of people who lived apart from Greece but kept economic ties with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2146320" y="208080"/>
            <a:ext cx="4718160" cy="1103040"/>
          </a:xfrm>
          <a:prstGeom prst="rect">
            <a:avLst/>
          </a:prstGeom>
          <a:ln w="0">
            <a:noFill/>
          </a:ln>
        </p:spPr>
      </p:pic>
      <p:sp>
        <p:nvSpPr>
          <p:cNvPr id="66" name="Vertical Scroll 2"/>
          <p:cNvSpPr/>
          <p:nvPr/>
        </p:nvSpPr>
        <p:spPr>
          <a:xfrm>
            <a:off x="1600200" y="0"/>
            <a:ext cx="5791320" cy="297180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057400" y="1676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sCALZPNKR.jpg"/>
          <p:cNvPicPr/>
          <p:nvPr/>
        </p:nvPicPr>
        <p:blipFill>
          <a:blip r:embed="rId2"/>
          <a:stretch/>
        </p:blipFill>
        <p:spPr>
          <a:xfrm>
            <a:off x="2438280" y="3809880"/>
            <a:ext cx="48769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Jur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438280" y="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ear evidence and make decisions in court of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imagesCATM94CA.jpg"/>
          <p:cNvPicPr/>
          <p:nvPr/>
        </p:nvPicPr>
        <p:blipFill>
          <a:blip r:embed="rId1"/>
          <a:stretch/>
        </p:blipFill>
        <p:spPr>
          <a:xfrm>
            <a:off x="1143000" y="2895480"/>
            <a:ext cx="6361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1" descr=""/>
          <p:cNvPicPr/>
          <p:nvPr/>
        </p:nvPicPr>
        <p:blipFill>
          <a:blip r:embed="rId1"/>
          <a:stretch/>
        </p:blipFill>
        <p:spPr>
          <a:xfrm>
            <a:off x="-291960" y="-171360"/>
            <a:ext cx="4260600" cy="1098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3581280" y="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headed by one ru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imagesCAD82ASX.jpg"/>
          <p:cNvPicPr/>
          <p:nvPr/>
        </p:nvPicPr>
        <p:blipFill>
          <a:blip r:embed="rId2"/>
          <a:stretch/>
        </p:blipFill>
        <p:spPr>
          <a:xfrm>
            <a:off x="2057400" y="2286000"/>
            <a:ext cx="40100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4:36:08Z</dcterms:modified>
  <cp:revision>100</cp:revision>
  <dc:subject/>
  <dc:title>Ancient Greece</dc:title>
</cp:coreProperties>
</file>